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EFC3A8-AC0F-4FAD-872F-63C6A3367C0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E4A5A8-C360-4D3A-AE4C-6648C8E88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C16C03-6AD1-47E7-8796-01EFD62A1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F0D1CC-ED5C-4962-9F83-FD3A9ED9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43E438-F6B6-4A1C-8689-38EDD193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271A18-FF31-4649-8C9A-6779C28EA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B3C87E-D702-42DC-9ABA-AC706886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DDADA3-7E16-4F55-A3CC-867FE12F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9C0769-2F99-48C7-B4FD-EDE260FC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6B03A3-CAF5-4942-A10A-77347188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8FF37-12F2-4C74-95DF-469F7FE3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FC6167-B23A-497F-8F28-F2C0E26D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931F6E-ED4A-4E5C-81D2-D43847A8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3CC4B6-0459-43E9-B7D7-BA3924774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599361-BF75-4AFC-87F3-373423E7F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16228-6B4A-4A43-9878-1F3B4E79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BEA31D-F03D-4245-8B86-A331154C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0A49DF-BFA3-4C20-9AE4-8030F4A1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BC269-F6F6-4362-8AA0-643E9DA23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C97073-3D57-4889-8C67-22FFB9FB1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CE75B3-6E5B-4278-ADF6-436D1BC5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BD07B-425F-4926-A6F3-B7AC3BF5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38468C-E272-4078-A5E1-7BA6E3472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2D6E8-CA2B-41F4-AD7A-1E123675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D191-3DB5-4235-AC57-002A43B99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753A-D05D-4D52-85B5-BD6E428EDA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7021-8C8F-4EEC-8F97-53FA4C6B9A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1D38-8198-45CE-81A8-C9A62A4B25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AEF5-4686-4C38-8EF7-AC0065E9CD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BFDD-0239-4460-8AF3-AC6696A6E8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FCF7-F0C0-4721-A134-BEE8AD6A28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D792-E3D8-4DEA-A02A-00137A078E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F1D4-6809-45E1-9482-7EF6E53CE3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6755-88DB-4DEB-A87B-FD900BF255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DDD4-0B9A-4FE2-A479-8F44FFE919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3467B-2464-4694-ADE5-8FEDC958E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11EE-DE4D-4BCD-A18D-B6821CBACB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37F45-55C3-4F44-8C3F-3476163E78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FD5E4-370C-4DD9-936B-1B02CC6219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3E7B3-79AC-4DF6-901B-145FF5072D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7C1B9-99CB-4606-A32C-95BD6863C7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5AEE1-DD1F-4106-BEEE-289067CDBD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25AD7-97C7-468F-B4F6-A6BAB907E1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BC2F5-3530-440A-A808-79EE41A77C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C56AE-3A78-4527-A1F9-44E41CC29A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3B025-C107-4AB9-9D86-001F220205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1F78D-DC7B-41E8-AB6A-5CC49A09C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B56A-153E-405C-BBAA-4EC1865828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2EF9F-458C-42E6-82FC-4574E638E0B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957FF-EBD0-4C79-9F58-ED7419A0CA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EB448-CD30-4891-A0CB-C8056AC397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15A8E-4AED-484A-A8D5-3FA38465E68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2CC43-9E1D-4696-8123-71CE3E5C43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7C7A5-D3BB-4982-B74A-88487271EE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71206-B81A-46DF-A271-1ABFC1E6AD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E6F79-09D6-45EA-9297-3777F9F483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E6715-E025-47D4-8764-D8EF042A34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864EC-41CF-4011-9B21-468A69DD7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1942-7B2A-489F-9220-E2328B6C95A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48445-C347-4EAC-B972-54413BD804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49B6A-69E3-4788-91D5-0C0BB247A3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F6D33-22BE-43F3-B597-617A9CC06E9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4AE6-1B68-4BBB-80C7-E2E4170792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0A37-7C54-4B31-9BDC-55C4412870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9CEB-3904-4624-BCD2-2187468A7C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DD33-4F31-44B0-B86A-2FCD59FD9BE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EAD6-D98D-47C0-AA79-E658A14F08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8676-9E98-45C7-9503-660B0694DB4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E4E0-3791-483F-9E7F-04A1D8D789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E740-27E6-45E5-A349-D49434A74EE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33C4-F8CB-4F72-8758-008E0FF5E6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4E08-901B-4882-869F-60D243B7466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45C4-CD64-4603-9376-97BFDBE946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06689-2AA6-4447-A01D-15C36A3C96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1737-862E-4EF2-A7DC-D54D9961FB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8E3CB-66C6-4BEB-A4BC-BF16AAEBC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E3349-2FCA-4BC1-AE3A-91C86A2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A6FB6-F526-4F54-A151-7314FFF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A208B-52E4-424F-B604-971D6688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63613-476C-4609-BD32-13493D0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2A9C-62F7-423C-9BAB-1FE639A3B2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2DF39-B89E-43F9-8497-61945321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F132D-B8D7-4767-93E3-4F848BE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D8AD0-EE01-4BE9-9745-E348127B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50546-FC17-4C94-8DD4-DC7EDE1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D8C09-6328-400F-B0CC-65C90EF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9669F-EDBB-44B1-B347-0DACD0D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81FFB-921A-4C50-BED1-F4AFB2A93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E3F5-87DF-4093-8FBB-8322D8E9F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B611-E3D9-475F-837C-DA7114C3B2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889F-1B24-4B73-9E94-436990145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C040-F672-4E6F-9797-37D172D28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BD53-9258-4314-A5E7-6BD10CAC9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D195-4C6F-4DB5-8945-AE2B4E335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31F6-9ACE-4C01-9E49-D6A28006F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7496-DE96-40F2-8D0D-541157E90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1E8F-1D0E-4FB0-8072-396554A55B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817A-B4BB-462E-97CC-54B792F9C6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483-5962-440A-83AB-0A4B698E35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D7D-9FAB-4E82-843E-CC03AF9B6B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0AA-2E89-44CD-8608-8159904BA1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D32-0868-4968-8BA0-7A2ECA0F69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2B6-9490-4D0B-B93D-AE00872F4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D897-678D-4711-81B4-F11D66F659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9CB-2FF6-4B8A-88D4-E4E3AB28E8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5ED-9F1B-4971-A158-06632F82DD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862-2C2C-424F-91D7-B19E4E5B6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F67-3AD3-4C5A-B054-A2E72FC799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2F4-E1CD-44B1-B91D-11F9FD8847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89A-6746-48E5-9195-B4A73C4053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759-23A5-46E6-AB3C-E4DFE53CB2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3E93D-DBA8-464C-99B6-AB61CAA6AB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4A6A4-BE45-4EEB-B632-2CD47C10FF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FD8A1-BF10-470F-9748-C26A0A73B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C780-D88A-4185-B307-53FAD3B0C7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FB1D2-0C3F-430E-9FC0-BD5B21E206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CD741-98E3-4A9D-A2C9-1DE9DAA7D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3A4BB-39F5-4F52-9DE2-C3A4814564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27BA5-DB87-4B4C-B9B5-884A224FBF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CEC5-85B8-482B-B908-B8E9100723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CC954-D9EA-4D4C-9317-34687A33AC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AED91-495D-4AB9-99D8-2D748B3E1D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C77FF-3F89-4B39-89FE-9A001D17D2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32D9-80C7-4CB4-8C48-D06A73B18A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9328-701C-47B4-AD73-53E2D005C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9C94-D13F-4520-9179-945292BC0D4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EE2A3-2AE8-4D35-A7A6-D8A18FCDCB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314F3-D963-4E62-994D-57D8B825E0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BBA7-E449-4D90-9DF8-4E5A3F339B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43AA-149A-43F1-9634-2519B528EF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6CC6-1667-44A1-99AE-9EAF8BD8AB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34176-D7D9-45BE-B420-597E9D79AF8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5630-8677-48DF-9E6C-B109C6F026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F60A5-F473-49E9-B6B1-98FC6E8207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7DAB6-D713-42D5-9EC1-3B0B193726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49AF9-C60E-4636-B6B6-13BD420A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433B-C65E-476A-87B0-2A733E9EF4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1030D-82B0-4407-B2AC-6FBC5B0E06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D16-1D5C-4540-AC09-8B14859245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AEDA-3B27-4F2F-B30E-DE383B6698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C450-9971-47FA-926D-43104E3FC4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4BC3-AB3A-450B-B3C3-C4AB56D67B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91B-9677-488B-975D-8623E05D6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8A0-9022-4B81-9F06-B25D3967AC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3E1E-E3C9-4B16-A92D-E28BF6F3D0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FD00-E5F0-4268-924C-A2BB8785F5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EA09-5AD1-4733-9321-CB141DE5C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233A-9A2E-4740-AF5B-09F51DFCEA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4371-CC15-48EE-9BE3-8760EC0FAE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046-589F-4FA5-90B2-DE60CFCA51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8C1-8480-4185-9149-2A0D9D4E94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9A411-9F33-41D8-AE78-F0A4C0B49F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24E07-555C-4317-9785-799D18CA22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762D0-E44F-4F97-9B47-7A932C6273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B81C4-3B3E-4FE5-8C78-A681FE9698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B15A1-993A-4DC4-824E-C8EFA835AA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5E496-15B8-483A-8C3B-7C214E4020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322DF-FCC6-468D-9CB2-046AF7772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A508-5E2E-4AD7-9ADD-A18312B73A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7EA9C-47EB-4099-8D0B-4F0081DAD7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E630B-8D81-496C-B15C-AF30C2C163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BE2EC-78BD-4130-A1AC-D270A58052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5D0F7-8AED-45E5-AC79-DFE5F12DF3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C782F-302E-496E-940F-749B8207C6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FE721-71EB-4E3B-9778-614F3B574B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FCE3A-CD32-4961-9C0F-4CE3FD357B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4EEED-42F8-46F2-A2BB-3EF707963E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4D96B-EF46-4C2E-B54C-2D1F7A952D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B9764-18D9-4252-8139-0DE583022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AC6F-46F5-4548-96D3-BA6F73936C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7E400-CFF1-490B-96FD-E89BD93DBF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290CF-DA5C-4E11-AAB5-A6AB18DFD2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53AD9-FF21-4846-86A7-653E5AD116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74EF3-A79D-4AB8-917B-00B8281486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31B31-7D11-4268-9B96-FCF8FC4B32C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423E1-CDF1-44BD-81B6-A1F30D7C32C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E73EA-AF03-46BA-8DA8-B2916FF4CF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0931-E260-4F0C-9660-AD5372330D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B0E8-3D29-4F36-A4AE-AA86B15458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13F0-D523-4B37-9B8C-D4D26FFFA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853A56-31E3-4109-8C2B-479AF9249C2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347370-61DE-44CD-9F9A-E67D9720239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48720-46AE-40D2-9231-9B43440D6FF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472F7C-1355-4B10-A0DC-42C5FE75155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275620-1AB8-416C-A537-7437A5EFF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BB3111-1840-47BF-8D96-BDE58664682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2CE353-CE9C-40B2-9F83-951CA254651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D021AA-0C71-4893-9B26-583ED44C71A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088B0D-4C54-43CE-9B7F-E250D884A5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F60C25-7EB2-4789-86D5-B7196A0413B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6503E0-87CB-4AD3-BB83-983EC29EFE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13D274-B6AE-4B29-A267-FADD2DF1D1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4CE54-3372-438C-9AE9-118D9F3C6F5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15:06Z</dcterms:modified>
  <cp:revision>154</cp:revision>
  <dc:subject/>
  <dc:title>Παρουσίαση του PowerPoint</dc:title>
</cp:coreProperties>
</file>